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3C9-E9C5-4B88-BFC8-560F378E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CB3-F700-4E45-BEED-60A27877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FFE-47B3-45F6-9FB5-266B5254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A49-3BF4-4AA6-AA6F-C399200E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1610-96D5-4482-9467-2E52B291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669-A026-40F8-A9AA-1BDDE0F6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2B9D-8BEA-4909-8DE2-300170FB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2715-767A-48F0-A335-637B71C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E503-C5C6-4001-998F-03143835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404C-8A36-4C6D-98F5-021C9720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2D19-D0B4-4533-ABE8-B91AEFD4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A46-989A-4B67-9DBC-C13C306A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1565-60A3-41AB-A7E2-7FA0381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E46F-C32B-495A-95E1-7D6FBC0B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D2B1-A8F5-447D-95C6-66A41DF8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DF15-7C76-4330-815A-03D34CE9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6FD-C6A9-4C91-B83D-AC536816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409-910F-4B63-A4C3-BF6C342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EC0-DDE1-4D02-ACF2-5F159315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543-E150-42F4-A403-DE558F04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D9D-DE41-4B65-870A-E6358EC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B1E-AF97-4E5D-A891-846DEAF1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59D-F56F-489D-833B-5DF7423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DAF-5C0B-42B2-9D15-C08E249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60C0-A544-44B3-9B2F-16B39C2DEEA0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BD8C-EE70-41BF-9C97-94F7BC7AB033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CREENING ONCOLOGIC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zione second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 preco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PERTURA DA ESAMI MAMMELLA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11280" y="2637000"/>
          <a:ext cx="7128720" cy="3958920"/>
        </p:xfrm>
        <a:graphic>
          <a:graphicData uri="http://schemas.openxmlformats.org/drawingml/2006/table">
            <a:tbl>
              <a:tblPr/>
              <a:tblGrid>
                <a:gridCol w="3184560"/>
                <a:gridCol w="3944160"/>
              </a:tblGrid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AN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67.0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54.3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48.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611280" y="134136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SimSun"/>
              </a:rPr>
              <a:t>Numero di persone sottoposte al test di screening nell’anno di riferimento + adesioni spontanee/popolazione bersaglio annual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Provincia Cuneo) - Fonte rendicontazione PLP 2021, 2022, 2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RV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1280" y="1484280"/>
          <a:ext cx="7777080" cy="2654280"/>
        </p:xfrm>
        <a:graphic>
          <a:graphicData uri="http://schemas.openxmlformats.org/drawingml/2006/table">
            <a:tbl>
              <a:tblPr/>
              <a:tblGrid>
                <a:gridCol w="2016000"/>
                <a:gridCol w="5761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CREENING TUMORE COLLO DELL’UT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5-29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Le donne di età compresa tra i 25 e i 29 anni, che non abbiano ricevuto due dosi del vaccino contro l’HPV entro i 15 anni di età, sono </a:t>
                      </a:r>
                      <a:r>
                        <a:rPr b="0" lang="it-IT" sz="1600" spc="-1" strike="noStrike" u="sng">
                          <a:solidFill>
                            <a:srgbClr val="000e18"/>
                          </a:solidFill>
                          <a:uFillTx/>
                          <a:latin typeface="Times New Roman"/>
                        </a:rPr>
                        <a:t>invitate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a eseguire il </a:t>
                      </a:r>
                      <a:r>
                        <a:rPr b="1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Pap test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. L’intervallo di tempo tra un test con esito negativo e il successivo è di </a:t>
                      </a:r>
                      <a:r>
                        <a:rPr b="1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3 anni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30-64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Le donne di età compresa tra i 30 e i 64 anni sono </a:t>
                      </a:r>
                      <a:r>
                        <a:rPr b="0" lang="it-IT" sz="1600" spc="-1" strike="noStrike" u="sng">
                          <a:solidFill>
                            <a:srgbClr val="000e18"/>
                          </a:solidFill>
                          <a:uFillTx/>
                          <a:latin typeface="Times New Roman"/>
                        </a:rPr>
                        <a:t>invitate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a eseguire il test per la ricerca del DNA di papillomavirus umano, o test </a:t>
                      </a:r>
                      <a:r>
                        <a:rPr b="1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HPV.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L’intervallo di tempo tra un test negativo e il successivo è di </a:t>
                      </a:r>
                      <a:r>
                        <a:rPr b="1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5 anni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.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  <a:ea typeface="SimSun"/>
              </a:rPr>
              <a:t>COPERTURA DA ESAMI</a:t>
            </a:r>
            <a:r>
              <a:rPr b="0" lang="it-IT" sz="4000" spc="-1" strike="noStrike">
                <a:solidFill>
                  <a:srgbClr val="ffffff"/>
                </a:solidFill>
                <a:latin typeface="Arial"/>
                <a:ea typeface="SimSun"/>
              </a:rPr>
              <a:t> - CERVI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71640" y="2565360"/>
          <a:ext cx="6337080" cy="3516480"/>
        </p:xfrm>
        <a:graphic>
          <a:graphicData uri="http://schemas.openxmlformats.org/drawingml/2006/table">
            <a:tbl>
              <a:tblPr/>
              <a:tblGrid>
                <a:gridCol w="2376360"/>
                <a:gridCol w="39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AN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66.0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44.4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61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611280" y="134136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SimSun"/>
              </a:rPr>
              <a:t>Numero di persone sottoposte al test di screening nell’anno di riferimento + adesioni spontanee/popolazione bersaglio annual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Provincia Cuneo) - Fonte rendicontazione PLP 2021, 2022, 2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-RET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96360" y="47628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341360"/>
          <a:ext cx="8229600" cy="1656000"/>
        </p:xfrm>
        <a:graphic>
          <a:graphicData uri="http://schemas.openxmlformats.org/drawingml/2006/table">
            <a:tbl>
              <a:tblPr/>
              <a:tblGrid>
                <a:gridCol w="1366920"/>
                <a:gridCol w="6862680"/>
              </a:tblGrid>
              <a:tr h="54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CREENING TUMORE COLON-RET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0-69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e18"/>
                          </a:solidFill>
                          <a:uFillTx/>
                          <a:latin typeface="Times New Roman"/>
                        </a:rPr>
                        <a:t>Invito attivo</a:t>
                      </a: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da parte del programma di screening rivolto a donne e uomini, per eseguire il test per la ricerca del </a:t>
                      </a:r>
                      <a:r>
                        <a:rPr b="1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sangue occulto nelle feci</a:t>
                      </a: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(FIT) con cadenza </a:t>
                      </a:r>
                      <a:r>
                        <a:rPr b="1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biennale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684360" y="3429000"/>
            <a:ext cx="7704000" cy="26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e18"/>
                </a:solidFill>
                <a:latin typeface="Arial"/>
              </a:rPr>
              <a:t>La Regione Piemonte ha </a:t>
            </a:r>
            <a:r>
              <a:rPr b="0" lang="it-IT" sz="2000" spc="-1" strike="noStrike">
                <a:solidFill>
                  <a:srgbClr val="990000"/>
                </a:solidFill>
                <a:latin typeface="Arial"/>
              </a:rPr>
              <a:t>recentemente modificato</a:t>
            </a:r>
            <a:r>
              <a:rPr b="0" lang="it-IT" sz="2000" spc="-1" strike="noStrike">
                <a:solidFill>
                  <a:srgbClr val="000e18"/>
                </a:solidFill>
                <a:latin typeface="Arial"/>
              </a:rPr>
              <a:t> il protocollo di screening colorettale ampliando la fascia d’età di invito introducendo l’offerta del test per </a:t>
            </a:r>
            <a:r>
              <a:rPr b="0" lang="it-IT" sz="2000" spc="-1" strike="noStrike" u="sng">
                <a:solidFill>
                  <a:srgbClr val="990000"/>
                </a:solidFill>
                <a:uFillTx/>
                <a:latin typeface="Arial"/>
              </a:rPr>
              <a:t>la ricerca del sangue occulto fecale come test primario di screening, invece della sigmoidoscopia</a:t>
            </a:r>
            <a:r>
              <a:rPr b="0" lang="it-IT" sz="2000" spc="-1" strike="noStrike">
                <a:solidFill>
                  <a:srgbClr val="000e18"/>
                </a:solidFill>
                <a:latin typeface="Arial"/>
              </a:rPr>
              <a:t> (la rispondenza era relativamente bass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e18"/>
                </a:solidFill>
                <a:latin typeface="Arial"/>
              </a:rPr>
              <a:t>Il test per la ricerca del sangue occulto è raccomandato dalle linee guida italiane ed europee: è un esame non invasivo e per questo l’adesione all’invito è generalmente alta.</a:t>
            </a:r>
            <a:r>
              <a:rPr b="0" lang="it-IT" sz="1800" spc="-1" strike="noStrike">
                <a:solidFill>
                  <a:srgbClr val="000e1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12000" y="386064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675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  <a:ea typeface="SimSun"/>
              </a:rPr>
              <a:t>COPERTURA DA ESAMI - COLON RETTO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  <a:ea typeface="SimSu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16000" y="2924280"/>
          <a:ext cx="5903640" cy="2808360"/>
        </p:xfrm>
        <a:graphic>
          <a:graphicData uri="http://schemas.openxmlformats.org/drawingml/2006/table">
            <a:tbl>
              <a:tblPr/>
              <a:tblGrid>
                <a:gridCol w="2310120"/>
                <a:gridCol w="359352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AN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46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42.2%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0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  <a:ea typeface="SimSun"/>
                        </a:rPr>
                        <a:t>55.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900000" y="1413000"/>
            <a:ext cx="69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SimSun"/>
              </a:rPr>
              <a:t>Numero di persone sottoposte al test di screening nell’anno di riferimento + adesioni spontanee/popolazione bersaglio annual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Provincia Cuneo) - Fonte rendicontazione PLP 2021, 2022, 2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OLO DEL MM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ore attiv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MN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G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MUOVERE EB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revenzione nelle Cure Primari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ID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M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-RE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TI 202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368136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1280" y="5589720"/>
            <a:ext cx="822960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 MAMM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1557360"/>
          <a:ext cx="8351640" cy="4433760"/>
        </p:xfrm>
        <a:graphic>
          <a:graphicData uri="http://schemas.openxmlformats.org/drawingml/2006/table">
            <a:tbl>
              <a:tblPr/>
              <a:tblGrid>
                <a:gridCol w="4176720"/>
                <a:gridCol w="417492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55.900 nuove diagnosi (202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15.500 decessi (202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ravvivenza netta a 5 anni dalla diagnos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8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à di vivere 4 anni superato il 1°anno dopo la diagno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9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834.200 donne viventi in Italia dopo diagno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 CERVICE UTER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341360"/>
          <a:ext cx="8424720" cy="5103720"/>
        </p:xfrm>
        <a:graphic>
          <a:graphicData uri="http://schemas.openxmlformats.org/drawingml/2006/table">
            <a:tbl>
              <a:tblPr/>
              <a:tblGrid>
                <a:gridCol w="3744720"/>
                <a:gridCol w="468000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.500 nuove diagnosi (1,3% dei tumori incidenti nelle donne nel 2022); Più frequente nella fascia giovanile (4% dei cas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.500 per tutti i tumori dell’utero (202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ravvivenza netta a 5 anni dalla diagnos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à di vivere 4 anni superato il 1°anno dopo la diagno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51.100 donne, viventi in Italia dopo diagno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I COLON-RET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600200"/>
          <a:ext cx="8075520" cy="4737240"/>
        </p:xfrm>
        <a:graphic>
          <a:graphicData uri="http://schemas.openxmlformats.org/drawingml/2006/table">
            <a:tbl>
              <a:tblPr/>
              <a:tblGrid>
                <a:gridCol w="4038480"/>
                <a:gridCol w="40370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50.500 nuove diagnosi (M=26.800; F=23.700) (202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24.200 decessi (M=13.000 F=11.200) (202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ravvivenza netta a 5 anni dalla diagnos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M=65%; F=6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à di vivere 4 anni superato il 1°anno dopo la diagno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M=77%; F=7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8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513.500 (M=280.300; F=233.200) viventi dopo diagno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REE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30360" y="1600200"/>
            <a:ext cx="788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OL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ELLA:45-75 anni (Don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5-49 anni una mammografia ogni ann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50-75 anni una mammografia ogni 2 an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VICE: 25-64 anni (Don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25-29 anni (che non hanno fatto una dose di vaccino contro l’HPV entro i 15 an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30-64 anni un test HPV ogni 5 an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-RETTO: 50 – 69 anni (Donne e Uomin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un test per la ricerca del sangue occulto nelle feci ogni 2 an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MMEL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0920" y="1341360"/>
          <a:ext cx="8713800" cy="4845240"/>
        </p:xfrm>
        <a:graphic>
          <a:graphicData uri="http://schemas.openxmlformats.org/drawingml/2006/table">
            <a:tbl>
              <a:tblPr/>
              <a:tblGrid>
                <a:gridCol w="1944720"/>
                <a:gridCol w="67690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CREENING MAMMOGRAF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45-49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e18"/>
                          </a:solidFill>
                          <a:uFillTx/>
                          <a:latin typeface="Times New Roman"/>
                        </a:rPr>
                        <a:t>Adesione spontanea</a:t>
                      </a: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e successivo re-invito da parte del programma di screening con </a:t>
                      </a:r>
                      <a:r>
                        <a:rPr b="1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cadenza annuale</a:t>
                      </a: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.</a:t>
                      </a:r>
                      <a:r>
                        <a:rPr b="1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0-69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 u="sng">
                          <a:solidFill>
                            <a:srgbClr val="000e18"/>
                          </a:solidFill>
                          <a:uFillTx/>
                          <a:latin typeface="Times New Roman"/>
                        </a:rPr>
                        <a:t>Invito attivo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da parte del programma di screening tramite lettera con appuntamento prefissato (modificabile contattando call center) </a:t>
                      </a:r>
                      <a:r>
                        <a:rPr b="1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cadenza biennale</a:t>
                      </a:r>
                      <a:r>
                        <a:rPr b="0" lang="it-IT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70-75 an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e18"/>
                          </a:solidFill>
                          <a:uFillTx/>
                          <a:latin typeface="Times New Roman"/>
                        </a:rPr>
                        <a:t>Adesione spontanea</a:t>
                      </a: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 con </a:t>
                      </a:r>
                      <a:r>
                        <a:rPr b="1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cadenza bienn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68ae"/>
                          </a:solidFill>
                          <a:latin typeface="Arial"/>
                        </a:rPr>
                        <a:t>Inoltre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Hanno diritto ad effettuare una mammografia gratuita contattando il programma di screening tutte le donne residenti o domiciliare, in età bersaglio, che non siano già inserite nel percorso di screening o si trovino in una delle seguenti condizioni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- Test precedentemente effettuato nel programma di screening da un tempo uguale o superiore all’intervallo previsto per la fascia di età (2 anni)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- Mai effettuato precedentemente un test nell’ambito del programma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e18"/>
                          </a:solidFill>
                          <a:latin typeface="Times New Roman"/>
                        </a:rPr>
                        <a:t>- Test precedente negativo e in attesa di nuovo invito, in presenza di sintom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2T09:12:58Z</dcterms:created>
  <dc:creator>ELaudani</dc:creator>
  <dc:description/>
  <dc:language>en-US</dc:language>
  <cp:lastModifiedBy>ELaudani</cp:lastModifiedBy>
  <dcterms:modified xsi:type="dcterms:W3CDTF">2024-06-02T09:22:22Z</dcterms:modified>
  <cp:revision>17</cp:revision>
  <dc:subject/>
  <dc:title>SCREENING ONCOLOGICI</dc:title>
</cp:coreProperties>
</file>